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BD4F-F38F-4B7F-A861-4725604C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BC60-3E14-471C-A8D6-BD998C5F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73954-F431-4808-BA5C-ED74185B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453E-6D03-4D2A-B7AE-A6AF5E2E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11DE-D3D5-4154-8FD4-9F770B23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A2F4-DB97-41CB-8AEC-3DB65665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9009-462D-4401-BD46-9863DC90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94A5-0812-47C2-BEE5-B3D4E015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F7E2-825F-4B5D-9732-443DD9BA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9562-D3CA-4E71-99F7-8159AD0B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E784-361D-488A-A0D6-BC179A70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D94D-E391-415C-9C68-42A67D66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5D2B-6603-4FBD-8995-FF7C3211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7B28-71DD-4118-9683-9D031C44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E9E4-DBAE-4F3E-ABDB-D05AF19C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F1B3-16A5-4123-B250-3CB3ABE0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F189-8C84-48A1-983B-0BA8593E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59FB-5229-4180-A632-D3C77855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EEB4-9E2B-4B8D-B6BF-4D947DF1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8E5FA-B863-4193-BC2A-7E260678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4DEC-4B53-4DED-A652-C2F5B1E0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8EFE-263C-4EAB-B478-05F62F0F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5FB6-B0B4-4634-BA7E-5FEEFF23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376B-BE30-49FB-9087-6EA14F90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C974-E5B6-4013-A79C-4B1C7084D9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6AB6-6BA1-4663-86D0-727F03F04D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raven Terrace police Departm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: Justin Tinne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24480" y="2590920"/>
            <a:ext cx="222912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66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3:18:14Z</dcterms:created>
  <dc:creator>NCDesk3</dc:creator>
  <dc:description/>
  <dc:language>en-US</dc:language>
  <cp:lastModifiedBy>NCDesk3</cp:lastModifiedBy>
  <dcterms:modified xsi:type="dcterms:W3CDTF">2012-02-17T13:31:47Z</dcterms:modified>
  <cp:revision>2</cp:revision>
  <dc:subject/>
  <dc:title>Craven Terrace police Department</dc:title>
</cp:coreProperties>
</file>